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15CD-9057-4895-82BB-E809908E9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83EA-A6E9-4225-8B61-9F9DAC2D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89A1-EBF8-47FF-AEF9-CF9854348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C43B-1D47-49F9-826A-204CD4537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BC9F-79F1-4951-8A6B-A3422C91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467E-2A48-4608-B22E-5834DB35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7437-B209-4043-9B0B-A48CD61C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75AE-D1F4-48AC-933C-81A5EAD5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98D7-D9BF-4138-B94C-DF305559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0D5A-FDBD-4902-9EB8-8F3910DC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693A-0C30-4ABD-BB21-C8565BB3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D0F2-AA8B-48F9-875F-C9073364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3948-A017-4220-B721-348DDD67E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/C++ Tu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Programs &amp; Intro to 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onio Maior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bruary 26,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ing “Objec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ure C, we can emulate OOP by using structs and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example, we will create a String object that can be used to facilitate the use of 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see how this can be don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ing Construction/Destr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uct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* pSt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lengt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ConstructString(String&amp; rString, int siz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String.pStr = new char[size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String.length = 0; // Nothing in string y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DestructString(String&amp; r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[] rString.pSt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ful String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SetString(String&amp; rString, char str[]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cpy(rString.pStr, st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String.length = strlen(st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GetStringLength(String&amp; r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rString.lengt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PrintString(String&amp; r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“%s\n”, rString.pSt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use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myName; // Declare a String “object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structString(myName, 50); // Create the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String(myName, “Tony”); // Set a value in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length = GetStringLength(myName); // Get the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“Length: %d\n”, length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String(myName); // Output the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structString(myName); // Destroy the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ver deal with the char* directly, we only use the struct and the functions (we deal only with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-specific information, like the length, is all packaged together in the struct (thi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capsu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long as we don’t change the function declarations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we can change the struct and how the functions use it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mplem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without affecting code that uses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hing stops the user from modifying the struct values directly! The data is no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t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may forget to call ConstructString() and/or DestructString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oying having to pass the String struct to every singl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ure C, there is no solution; but in C++, we can u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ll see how next wee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C/C++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2670120"/>
            <a:ext cx="259056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.c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include &lt;functions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87800" y="2666880"/>
            <a:ext cx="247968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s.c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include &lt;functions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foo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f(“Boo!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502920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.ob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13760" y="1600200"/>
            <a:ext cx="1415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fo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14760" y="5029200"/>
            <a:ext cx="1619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s.ob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40760" y="6253200"/>
            <a:ext cx="1157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.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"/>
          <p:cNvCxnSpPr>
            <a:stCxn id="45" idx="0"/>
            <a:endCxn id="47" idx="2"/>
          </p:cNvCxnSpPr>
          <p:nvPr/>
        </p:nvCxnSpPr>
        <p:spPr>
          <a:xfrm flipH="1" flipV="1">
            <a:off x="6220800" y="2250360"/>
            <a:ext cx="6840" cy="41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4" idx="0"/>
            <a:endCxn id="47" idx="1"/>
          </p:cNvCxnSpPr>
          <p:nvPr/>
        </p:nvCxnSpPr>
        <p:spPr>
          <a:xfrm flipV="1">
            <a:off x="2743200" y="1925280"/>
            <a:ext cx="276624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4" idx="2"/>
            <a:endCxn id="46" idx="0"/>
          </p:cNvCxnSpPr>
          <p:nvPr/>
        </p:nvCxnSpPr>
        <p:spPr>
          <a:xfrm>
            <a:off x="2742840" y="44193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8" idx="0"/>
          </p:cNvCxnSpPr>
          <p:nvPr/>
        </p:nvCxnSpPr>
        <p:spPr>
          <a:xfrm flipH="1">
            <a:off x="6224400" y="4416480"/>
            <a:ext cx="360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6" idx="2"/>
            <a:endCxn id="49" idx="0"/>
          </p:cNvCxnSpPr>
          <p:nvPr/>
        </p:nvCxnSpPr>
        <p:spPr>
          <a:xfrm flipH="1" rot="16200000">
            <a:off x="3106440" y="5040720"/>
            <a:ext cx="848520" cy="157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8" idx="2"/>
            <a:endCxn id="49" idx="0"/>
          </p:cNvCxnSpPr>
          <p:nvPr/>
        </p:nvCxnSpPr>
        <p:spPr>
          <a:xfrm rot="5400000">
            <a:off x="4847760" y="4876560"/>
            <a:ext cx="848520" cy="1905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231120" y="4495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omp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1240" y="5678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0880" y="202104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rite 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rite your sourc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.c/.cpp files must be part of you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piles all .c/.cpp files into their respective .obj (object)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k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s all .obj files and produces the output file(s): .exe, .dll, .l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st Common Linker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bug/linkerror.exe : fatal error LNK1169: one or more multiply defined symbols f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happens when at least 2 .obj files contain the sam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riable decla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unction defin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see an exampl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ker Erro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2441520"/>
            <a:ext cx="259092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.c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include "foo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2438280"/>
            <a:ext cx="259092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o.c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include "foo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foo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1219320"/>
            <a:ext cx="25909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o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fo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>
            <a:stCxn id="64" idx="0"/>
            <a:endCxn id="66" idx="1"/>
          </p:cNvCxnSpPr>
          <p:nvPr/>
        </p:nvCxnSpPr>
        <p:spPr>
          <a:xfrm flipV="1">
            <a:off x="2819160" y="1682280"/>
            <a:ext cx="1905480" cy="75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5" idx="0"/>
            <a:endCxn id="66" idx="2"/>
          </p:cNvCxnSpPr>
          <p:nvPr/>
        </p:nvCxnSpPr>
        <p:spPr>
          <a:xfrm flipV="1">
            <a:off x="6019560" y="2144160"/>
            <a:ext cx="108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752480" y="4724280"/>
            <a:ext cx="2133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.ob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a”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4724280"/>
            <a:ext cx="1981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s.ob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a”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64" idx="2"/>
            <a:endCxn id="69" idx="0"/>
          </p:cNvCxnSpPr>
          <p:nvPr/>
        </p:nvCxnSpPr>
        <p:spPr>
          <a:xfrm>
            <a:off x="2819160" y="41907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5" idx="2"/>
            <a:endCxn id="70" idx="0"/>
          </p:cNvCxnSpPr>
          <p:nvPr/>
        </p:nvCxnSpPr>
        <p:spPr>
          <a:xfrm>
            <a:off x="6019560" y="4187880"/>
            <a:ext cx="108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3788280" y="6248520"/>
            <a:ext cx="1157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.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69" idx="2"/>
            <a:endCxn id="73" idx="0"/>
          </p:cNvCxnSpPr>
          <p:nvPr/>
        </p:nvCxnSpPr>
        <p:spPr>
          <a:xfrm flipH="1" rot="16200000">
            <a:off x="3155760" y="5037840"/>
            <a:ext cx="874080" cy="1548360"/>
          </a:xfrm>
          <a:prstGeom prst="bentConnector3">
            <a:avLst>
              <a:gd name="adj1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70" idx="2"/>
            <a:endCxn id="73" idx="0"/>
          </p:cNvCxnSpPr>
          <p:nvPr/>
        </p:nvCxnSpPr>
        <p:spPr>
          <a:xfrm rot="5400000">
            <a:off x="4755960" y="4985280"/>
            <a:ext cx="874080" cy="1653480"/>
          </a:xfrm>
          <a:prstGeom prst="bentConnector3">
            <a:avLst>
              <a:gd name="adj1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146160" y="419112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s alrigh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4080" y="567864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er erro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3880" y="2441520"/>
            <a:ext cx="259092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.c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include "foo.h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2438280"/>
            <a:ext cx="259092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o.c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include "foo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foo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1219320"/>
            <a:ext cx="25909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o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fo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79" idx="0"/>
            <a:endCxn id="81" idx="1"/>
          </p:cNvCxnSpPr>
          <p:nvPr/>
        </p:nvCxnSpPr>
        <p:spPr>
          <a:xfrm flipV="1">
            <a:off x="2819160" y="1682280"/>
            <a:ext cx="1905480" cy="75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80" idx="0"/>
            <a:endCxn id="81" idx="2"/>
          </p:cNvCxnSpPr>
          <p:nvPr/>
        </p:nvCxnSpPr>
        <p:spPr>
          <a:xfrm flipV="1">
            <a:off x="6019560" y="2144160"/>
            <a:ext cx="108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1752480" y="4911840"/>
            <a:ext cx="21337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.ob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4911840"/>
            <a:ext cx="19810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s.ob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a”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79" idx="2"/>
            <a:endCxn id="84" idx="0"/>
          </p:cNvCxnSpPr>
          <p:nvPr/>
        </p:nvCxnSpPr>
        <p:spPr>
          <a:xfrm>
            <a:off x="2819160" y="4465440"/>
            <a:ext cx="1080" cy="44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0" idx="2"/>
            <a:endCxn id="85" idx="0"/>
          </p:cNvCxnSpPr>
          <p:nvPr/>
        </p:nvCxnSpPr>
        <p:spPr>
          <a:xfrm>
            <a:off x="6019560" y="4462560"/>
            <a:ext cx="1080" cy="45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3788280" y="6248520"/>
            <a:ext cx="1157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.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stCxn id="84" idx="2"/>
            <a:endCxn id="88" idx="0"/>
          </p:cNvCxnSpPr>
          <p:nvPr/>
        </p:nvCxnSpPr>
        <p:spPr>
          <a:xfrm flipH="1" rot="16200000">
            <a:off x="3386880" y="5268960"/>
            <a:ext cx="411840" cy="1548360"/>
          </a:xfrm>
          <a:prstGeom prst="bentConnector3">
            <a:avLst>
              <a:gd name="adj1" fmla="val 497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5" idx="2"/>
            <a:endCxn id="88" idx="0"/>
          </p:cNvCxnSpPr>
          <p:nvPr/>
        </p:nvCxnSpPr>
        <p:spPr>
          <a:xfrm rot="5400000">
            <a:off x="4987080" y="5216400"/>
            <a:ext cx="411840" cy="1653480"/>
          </a:xfrm>
          <a:prstGeom prst="bentConnector3">
            <a:avLst>
              <a:gd name="adj1" fmla="val 497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4724280" y="16002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26080" y="29718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 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525680" y="2971800"/>
            <a:ext cx="2224080" cy="2852280"/>
            <a:chOff x="1525680" y="2971800"/>
            <a:chExt cx="2224080" cy="2852280"/>
          </a:xfrm>
        </p:grpSpPr>
        <p:sp>
          <p:nvSpPr>
            <p:cNvPr id="94" name=""/>
            <p:cNvSpPr/>
            <p:nvPr/>
          </p:nvSpPr>
          <p:spPr>
            <a:xfrm>
              <a:off x="1525680" y="297180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extern int a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752480" y="5181480"/>
              <a:ext cx="199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 a” defined somewhere el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P: Object-Oriented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start by implementing OOP in pure C (not C+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see the problems inherent in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see how to solve these problems using constructs introduced in C+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word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s group variables of different data types into one data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treat a structure as any normal data type; example: you can have an array of struc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known as a “recor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include &lt;string.h&gt; // for strcpy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uct Employ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 name[50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ag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mployee ton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cpy(tony.name, “Tony Maiorano”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ny.age = 2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mployee employees[100]; // Array of 100 employ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mployees[23].age = 44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4:37:03Z</dcterms:created>
  <dc:creator>Antonio Maiorano</dc:creator>
  <dc:description/>
  <dc:language>en-US</dc:language>
  <cp:lastModifiedBy>Tony</cp:lastModifiedBy>
  <dcterms:modified xsi:type="dcterms:W3CDTF">2003-08-23T18:08:52Z</dcterms:modified>
  <cp:revision>34</cp:revision>
  <dc:subject/>
  <dc:title>C/C++ Tutorial</dc:title>
</cp:coreProperties>
</file>